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7FC-1493-4059-AA84-5B380CBD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561-6393-48EB-8DF4-3455B39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125-4D76-4909-948C-DB461564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844-CE17-4895-9DC4-ADD9D437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3BA-C418-4F39-A2B4-7D11F1C7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0A0-ADD3-45D1-87A6-BEEA9DEF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4E9-233B-4079-A069-53117067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D78-1207-48FE-839C-D03A9CCD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B6B-306D-44AB-BD72-89FA0CE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0AF-DA00-4A6E-A3E2-62D7E49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BCF-CA1A-4877-A673-574CB4B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447-6D22-44D8-84AD-FDB1684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4A0-C0E2-4D88-BC25-3C56981F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5765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13333" b="10000"/>
          <a:stretch/>
        </p:blipFill>
        <p:spPr>
          <a:xfrm>
            <a:off x="4724280" y="3798720"/>
            <a:ext cx="4419720" cy="305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223992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34120" y="457200"/>
            <a:ext cx="33526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 Catolog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62720" y="1828800"/>
            <a:ext cx="2743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 Rop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Castellar"/>
              </a:rPr>
              <a:t>La Primave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876400"/>
            <a:ext cx="2805120" cy="398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28954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ia lleva una falda blanca, una pulsera con muchos colores, una blusa azul, y los zapatos ro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953400" y="2819520"/>
            <a:ext cx="219060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4952880"/>
            <a:ext cx="1752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an lleva tenis negros, un camiseta de n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, y los pantalones co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Castellar"/>
              </a:rPr>
              <a:t>El Vera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13333" b="10000"/>
          <a:stretch/>
        </p:blipFill>
        <p:spPr>
          <a:xfrm>
            <a:off x="4452840" y="3611520"/>
            <a:ext cx="469116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62720" y="3581280"/>
            <a:ext cx="35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ateo lleva blue jeans, una camiseta verde, zapatos azules, y gafas de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510552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23039" t="0" r="23039" b="0"/>
          <a:stretch/>
        </p:blipFill>
        <p:spPr>
          <a:xfrm>
            <a:off x="0" y="2514600"/>
            <a:ext cx="151272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5720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aco lleva un traje de ba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o negro y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stellar"/>
              </a:rPr>
              <a:t>El Oto</a:t>
            </a:r>
            <a:r>
              <a:rPr b="0" lang="en-US" sz="7200" spc="-1" strike="noStrike">
                <a:solidFill>
                  <a:srgbClr val="ff3300"/>
                </a:solidFill>
                <a:latin typeface="Castellar"/>
                <a:ea typeface="Arial"/>
              </a:rPr>
              <a:t>ñ</a:t>
            </a:r>
            <a:r>
              <a:rPr b="0" lang="en-US" sz="7200" spc="-1" strike="noStrike">
                <a:solidFill>
                  <a:srgbClr val="ff3300"/>
                </a:solidFill>
                <a:latin typeface="Castellar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3309840" cy="220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4572000"/>
            <a:ext cx="3048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Jos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 lleva un abrigo, una bufanda, y un g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53080" y="2057400"/>
            <a:ext cx="1895760" cy="241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53080" y="4724280"/>
            <a:ext cx="1905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Javi lleva una chaqueta y pantal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ff"/>
                </a:solidFill>
                <a:latin typeface="Castellar"/>
              </a:rPr>
              <a:t>El Invier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30000" t="0" r="28000" b="0"/>
          <a:stretch/>
        </p:blipFill>
        <p:spPr>
          <a:xfrm>
            <a:off x="846000" y="1371600"/>
            <a:ext cx="1184400" cy="2397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14479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ugusto lleva un chaleco, una corbata, una camisa, pantalones, un cintu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, y bo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466040" y="4114800"/>
            <a:ext cx="1677960" cy="2743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05520" y="5334120"/>
            <a:ext cx="2209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duardo lleva un abrigo, un chaleco, un camiseta, y panta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7:07Z</dcterms:created>
  <dc:creator>levinemat</dc:creator>
  <dc:description/>
  <dc:language>en-US</dc:language>
  <cp:lastModifiedBy>levinemat</cp:lastModifiedBy>
  <dcterms:modified xsi:type="dcterms:W3CDTF">2013-01-03T19:11:58Z</dcterms:modified>
  <cp:revision>9</cp:revision>
  <dc:subject/>
  <dc:title>Slide 1</dc:title>
</cp:coreProperties>
</file>